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93BC-C9DE-4E6A-B38E-D3A899636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0557-AB64-433C-9C44-09C9D36DFA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3E1D-9D1E-4714-903E-31978BB9C1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fld id="{88AE9522-3CC8-4FDE-A49C-EE23DB3419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1535E-1505-40F5-A715-C339D3A92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85776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268A-6ADE-4420-A87E-D3B5D973E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7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BBCAC-DD98-4901-BC64-C39EFED65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08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08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F3018-556C-45CD-B17F-ECD0CA0BC8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55640" y="549000"/>
            <a:ext cx="77738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2D131-CDDA-42E4-8192-47A13D225D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7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4360" y="385776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7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08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436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08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494FA-1EAB-4177-AC51-FFE0DC87C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0979F-5FB7-4D0F-96FC-3CD609227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22710-A620-47A5-8963-7BC64584C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549000"/>
            <a:ext cx="77738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1BBC-FD28-449B-9FBB-E58B424FE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FBC85-23AF-4B69-BE89-9AAC01289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7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34136-1E5E-4679-8D02-6631FA552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5EB24-7368-4FA0-8930-E26001F71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8" descr=""/>
          <p:cNvPicPr/>
          <p:nvPr/>
        </p:nvPicPr>
        <p:blipFill>
          <a:blip r:embed="rId2"/>
          <a:stretch/>
        </p:blipFill>
        <p:spPr>
          <a:xfrm>
            <a:off x="-1440" y="6678720"/>
            <a:ext cx="9150120" cy="1825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2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9877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1" descr=""/>
          <p:cNvPicPr/>
          <p:nvPr/>
        </p:nvPicPr>
        <p:blipFill>
          <a:blip r:embed="rId4"/>
          <a:stretch/>
        </p:blipFill>
        <p:spPr>
          <a:xfrm>
            <a:off x="7873920" y="5932440"/>
            <a:ext cx="1054080" cy="69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800" y="6397200"/>
            <a:ext cx="19051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F567-10FC-4448-989A-E9A34814DA28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1763640" y="6218280"/>
            <a:ext cx="600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3" descr=""/>
          <p:cNvPicPr/>
          <p:nvPr/>
        </p:nvPicPr>
        <p:blipFill>
          <a:blip r:embed="rId2"/>
          <a:stretch/>
        </p:blipFill>
        <p:spPr>
          <a:xfrm>
            <a:off x="4011480" y="0"/>
            <a:ext cx="5132520" cy="4476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1" descr=""/>
          <p:cNvPicPr/>
          <p:nvPr/>
        </p:nvPicPr>
        <p:blipFill>
          <a:blip r:embed="rId3"/>
          <a:stretch/>
        </p:blipFill>
        <p:spPr>
          <a:xfrm>
            <a:off x="685800" y="3124080"/>
            <a:ext cx="1828800" cy="154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86040" y="2499840"/>
            <a:ext cx="562464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ession 3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Agricultural Growth &amp;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ocial Transfers</a:t>
            </a: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: 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-360" y="5143320"/>
            <a:ext cx="857268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ac543"/>
                </a:solidFill>
                <a:latin typeface="Verdana"/>
              </a:rPr>
              <a:t>Seminar on hot topics in agricul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ac543"/>
                </a:solidFill>
                <a:latin typeface="Verdana"/>
              </a:rPr>
              <a:t>Bruxelles, 12-14 July 2010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95280" y="714240"/>
            <a:ext cx="381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itle 2"/>
          <p:cNvSpPr/>
          <p:nvPr/>
        </p:nvSpPr>
        <p:spPr>
          <a:xfrm>
            <a:off x="3071880" y="4071960"/>
            <a:ext cx="5410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Nicholas Free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3851280" y="5013360"/>
            <a:ext cx="1501920" cy="9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sisting the rural (and urban) p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hrough Government-owned national program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upported by the EC (and other dono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reating comprehensive socio-economic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Based on balanced allocation of budgetary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A657-C076-43D5-8CB2-D61FAAC033C1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ounded Rectangle 10"/>
          <p:cNvSpPr/>
          <p:nvPr/>
        </p:nvSpPr>
        <p:spPr>
          <a:xfrm>
            <a:off x="500040" y="857160"/>
            <a:ext cx="5572080" cy="5357880"/>
          </a:xfrm>
          <a:prstGeom prst="roundRect">
            <a:avLst>
              <a:gd name="adj" fmla="val 25963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ounded Rectangle 9"/>
          <p:cNvSpPr/>
          <p:nvPr/>
        </p:nvSpPr>
        <p:spPr>
          <a:xfrm>
            <a:off x="3429000" y="857160"/>
            <a:ext cx="5143680" cy="5357880"/>
          </a:xfrm>
          <a:custGeom>
            <a:avLst/>
            <a:gdLst>
              <a:gd name="textAreaLeft" fmla="*/ 390960 w 5143680"/>
              <a:gd name="textAreaRight" fmla="*/ 4752720 w 5143680"/>
              <a:gd name="textAreaTop" fmla="*/ 390960 h 5357880"/>
              <a:gd name="textAreaBottom" fmla="*/ 4966920 h 5357880"/>
            </a:gdLst>
            <a:ahLst/>
            <a:rect l="textAreaLeft" t="textAreaTop" r="textAreaRight" b="textAreaBottom"/>
            <a:pathLst>
              <a:path w="21600" h="22499">
                <a:moveTo>
                  <a:pt x="5608" y="0"/>
                </a:moveTo>
                <a:arcTo wR="5608" hR="5608" stAng="16200000" swAng="-5400000"/>
                <a:lnTo>
                  <a:pt x="0" y="16891"/>
                </a:lnTo>
                <a:arcTo wR="5608" hR="5608" stAng="10800000" swAng="-5400000"/>
                <a:lnTo>
                  <a:pt x="15992" y="22499"/>
                </a:lnTo>
                <a:arcTo wR="5608" hR="5608" stAng="5400000" swAng="-5400000"/>
                <a:lnTo>
                  <a:pt x="21600" y="5608"/>
                </a:lnTo>
                <a:arcTo wR="5608" hR="5608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3920" y="928800"/>
            <a:ext cx="728676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nd refo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cro-cred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rop insu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put subsid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GR/price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ublic wor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set transf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sh transf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od transf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chool me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r. fee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643200" y="928800"/>
            <a:ext cx="48276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219F-DFDC-44DA-B9E9-615877AE2619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642960" y="307188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Verdana"/>
              </a:rPr>
              <a:t>Agricultu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Verdana"/>
              </a:rPr>
              <a:t>Poli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6286680" y="288756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oli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Box 13"/>
          <p:cNvSpPr/>
          <p:nvPr/>
        </p:nvSpPr>
        <p:spPr>
          <a:xfrm rot="16200000">
            <a:off x="-2473920" y="3300480"/>
            <a:ext cx="55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e5"/>
                </a:solidFill>
                <a:latin typeface="Verdana"/>
              </a:rPr>
              <a:t>Poorest                                  Least Po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Straight Arrow Connector 15"/>
          <p:cNvCxnSpPr/>
          <p:nvPr/>
        </p:nvCxnSpPr>
        <p:spPr>
          <a:xfrm flipV="1">
            <a:off x="356040" y="2356560"/>
            <a:ext cx="1080" cy="2715480"/>
          </a:xfrm>
          <a:prstGeom prst="straightConnector1">
            <a:avLst/>
          </a:prstGeom>
          <a:ln w="12600">
            <a:solidFill>
              <a:srgbClr val="0000e5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1" name="TextBox 20"/>
          <p:cNvSpPr/>
          <p:nvPr/>
        </p:nvSpPr>
        <p:spPr>
          <a:xfrm rot="16200000">
            <a:off x="5986080" y="344376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e5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e5"/>
                </a:solidFill>
                <a:latin typeface="Verdana"/>
              </a:rPr>
              <a:t>Provision      Prevention     Promo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2" name="Straight Arrow Connector 22"/>
          <p:cNvCxnSpPr/>
          <p:nvPr/>
        </p:nvCxnSpPr>
        <p:spPr>
          <a:xfrm flipH="1" flipV="1">
            <a:off x="8786160" y="4285440"/>
            <a:ext cx="19800" cy="376920"/>
          </a:xfrm>
          <a:prstGeom prst="straightConnector1">
            <a:avLst/>
          </a:prstGeom>
          <a:ln w="12600">
            <a:solidFill>
              <a:srgbClr val="0000e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3" name="Straight Arrow Connector 25"/>
          <p:cNvCxnSpPr/>
          <p:nvPr/>
        </p:nvCxnSpPr>
        <p:spPr>
          <a:xfrm flipH="1" flipV="1">
            <a:off x="8786160" y="2428200"/>
            <a:ext cx="19800" cy="376920"/>
          </a:xfrm>
          <a:prstGeom prst="straightConnector1">
            <a:avLst/>
          </a:prstGeom>
          <a:ln w="12600">
            <a:solidFill>
              <a:srgbClr val="0000e5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LAND REFORM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courage invest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 ri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facilitate access to credit as collate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allow exit from agriculture through s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 benefit for landl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or benefit for smallhol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gative impacts on excluded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increase vulnerability of sell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C2AA-FDAF-437F-B398-9F4AD6B00FC3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INFRASTRUCTURE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 costs of transport/com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 produ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aise producer pr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 consumer pr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ias towards commercial se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by-pass poorest ar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ery high capital 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or maintenance/ deterio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9031-04EC-454A-B4E9-83E301375E31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MICRO-CREDIT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comes critical constra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s income and agric as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moothes consum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s risk and vulner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orest won’t take the risk of cred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isk of defa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ey to weather ri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BC16-950A-4BC4-9A1A-52C6DB507EC3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CROP INSURANCE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s ri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courages investment in higher retur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t well suited to small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t many successful ex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33A5-2D53-4D80-8511-4EA41604336D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INPUT SUBSIDIE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ick-start pro-poor growth (eg Asi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aise pro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wer pr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st benefits captured by the better-o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efficient use of inpu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akage across bor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ensive form of cash transfer to the poor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clude those without land or labo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ey to weather ri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6771-79BF-4724-BCCA-E5B7AB0749EA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GR/PRICE CONTROL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d price volat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motes food pro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support local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moothes impact of season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xed impact of high/ low pr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duc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bour mar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isk of political intere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d stabilisation role of private se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C431-A321-4F6B-A87E-4653CDA4AA89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UBLIC WORK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7120" y="2174760"/>
            <a:ext cx="42861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generate useful assets/infra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afeguards household as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moothes consum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stimulate labour mark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ould be demand- not supply-driven (NREG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ssible multiplier eff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s on-farm labour avail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lf”-targeting excludes those without labo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elow market wage rates perpetuate pover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t benefit is mar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ery high c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71B1-9A01-4068-AAFB-330A95E1C601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ASSET TRANFER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 agric assets and inco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 risk and vulner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courage divers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ulnerability of asset to loss/the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ed for training and supp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set may be sold before investment is maximi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0ACB-F4D6-4D2D-A1BF-721CB92F603B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eparate Policy Domains?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gricultural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5480" y="2174760"/>
            <a:ext cx="42116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 Grow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du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[Small]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Ag (&amp;FS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r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t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Social 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A7BC-139C-49F6-8FE1-4E7928DAA96B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CASH TRANSFER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d to buy local food, stimulates pro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afeguards as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s health, agric produ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ultiplier effects in local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s season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nger of inflation in weak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isk of reduced value of transfer if prices r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A8D4-FE5D-4B21-B6EC-BA9269D7CCF4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FOOD TRANSFER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cal purchase can support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afeguard as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 health and nutr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’l purchase is disincentive to local produc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riangular purchase may shift the prob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cal purchase may create inflation and distort supp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rowd out private sector trade/stor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7870-211B-4F0F-B855-CB82F60B719A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CHOOL MEAL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 nutr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 learning outco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ut intergenerational transmission of pover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support local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 long-term quality of agric/labo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undermine local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ensive form of transf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lusion err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B63B-FB3A-47B2-96EE-EDD909380DDC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THERAPEUTIC FEEDING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d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tential for local supp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73B8-0603-4D02-BDB3-02C103876517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“</a:t>
            </a: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ix Point Policy Agenda”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(Devereux, 2009)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71680" y="1500120"/>
            <a:ext cx="82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et inputs to farmers on time and at affordable pri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rengthen rural markets to stabilise commodity prices, especially of staple foo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uild essential rural infrastructure and enabling institu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sure vulnerable farmers against agricultural risk, for instance with innovative mechanisms such as weather‑indexed insurance schemes and guaranteed employment legisl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ve away from imported food aid towards local sourcing and/or cash transfers wherever local markets and cultural contexts (specifically gender relations) permit th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clare a moratorium on small‑scale ‘pilot projects’ and support permanent national social protection programmes that are integrated into broader agricultural and development polic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BE91-225C-475C-88FD-A1FAC4C20AA4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3203640" y="189000"/>
            <a:ext cx="4279680" cy="27986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"/>
          <p:cNvSpPr/>
          <p:nvPr/>
        </p:nvSpPr>
        <p:spPr>
          <a:xfrm>
            <a:off x="755640" y="306864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bac543"/>
                </a:solidFill>
                <a:latin typeface="Vrinda"/>
              </a:rPr>
              <a:t>www.wahenga.n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2"/>
          <a:stretch/>
        </p:blipFill>
        <p:spPr>
          <a:xfrm>
            <a:off x="900000" y="4122720"/>
            <a:ext cx="7442280" cy="1096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"/>
          <p:cNvPicPr/>
          <p:nvPr/>
        </p:nvPicPr>
        <p:blipFill>
          <a:blip r:embed="rId3"/>
          <a:stretch/>
        </p:blipFill>
        <p:spPr>
          <a:xfrm>
            <a:off x="0" y="6659640"/>
            <a:ext cx="9144000" cy="222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4"/>
          <a:stretch/>
        </p:blipFill>
        <p:spPr>
          <a:xfrm>
            <a:off x="0" y="5759280"/>
            <a:ext cx="9144000" cy="804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5"/>
          <a:stretch/>
        </p:blipFill>
        <p:spPr>
          <a:xfrm>
            <a:off x="0" y="5400720"/>
            <a:ext cx="9144000" cy="22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 Grow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du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[Small]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Ag (&amp;FS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r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t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Social 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72DA-106B-42EF-8D23-AB69B40A0181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du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[Small]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Ag (&amp;FS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r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t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Social 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B713-6F8C-4A83-A78D-BF846F2D92A1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[Small]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Ag (&amp;FS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t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Social 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5AB3-23E5-4EA4-84CE-93EC977CC511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sisting the rural (and urban) p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Ag (&amp;FS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Social 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8837-9D58-4682-AE24-01A6154F9505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sisting the rural (and urban) p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hrough Government-owned national program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C6A6-A199-4834-8956-4293631F3E3F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sisting the rural (and urban) p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hrough Government-owned national program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upported by the EC (and other dono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4EF7-FA1E-4007-96ED-464C03D582A8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sisting the rural (and urban) p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hrough Government-owned national program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upported by the EC (and other dono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reating comprehensive socio-economic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578A-2831-4B17-B860-63BF0CCF608C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07:31:47Z</dcterms:created>
  <dc:creator>John Rook</dc:creator>
  <dc:description/>
  <dc:language>en-US</dc:language>
  <cp:lastModifiedBy>Nicholas Freeland</cp:lastModifiedBy>
  <dcterms:modified xsi:type="dcterms:W3CDTF">2010-06-09T10:18:23Z</dcterms:modified>
  <cp:revision>125</cp:revision>
  <dc:subject/>
  <dc:title>PowerPoint Presentation</dc:title>
</cp:coreProperties>
</file>